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wmf" ContentType="image/x-wmf"/>
  <Override PartName="/ppt/media/image8.wmf" ContentType="image/x-wmf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wmf" ContentType="image/x-wmf"/>
  <Override PartName="/ppt/media/image14.jpeg" ContentType="image/jpeg"/>
  <Override PartName="/ppt/media/image18.wmf" ContentType="image/x-wmf"/>
  <Override PartName="/ppt/media/image17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23.jpeg" ContentType="image/jpeg"/>
  <Override PartName="/ppt/media/image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5630C-E10D-4010-96D7-A7D16B96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326D7-2E80-473A-BE21-4CDC537B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335BA-3DDD-4AA0-8C15-4F0D37F2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1F098-23D0-42C7-8CA3-AFF1401F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69DC6-9900-4112-A687-D9307A41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BD980-4E10-4748-9DEB-5C7DC428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0B93A-64B0-4B7F-94F9-CDB42180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786BA-0784-4B39-BC1C-A1E1CEB9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CA15F-C266-447E-89D0-516A8CF4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9FBC7-80CD-47CB-B163-1B4C1286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0A7A4-0C57-436C-9D1F-64B27EEF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FD893-D859-498E-B725-609328A0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53B9F-2754-4D6D-95EB-3F125228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E0E2C-608A-4B71-9C18-2601E7BC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3F569-D53A-42FC-92FB-D9B4D32E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FBE74-5DB3-45D4-918F-1B6D6893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16079-5343-4749-A896-DE654CCB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C629F-CF09-4B10-A11E-81CBA263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63931-E757-4056-B91B-88DB9F25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1F00D-8B0F-409A-9DE4-B4393C8C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6EE04-E471-49B7-8085-4D38A554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BCEF3-147A-4A9F-8AAC-0BB5177C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AD1B4-9957-41B3-8F17-07A12304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902C3-7FE7-4C36-9266-E9332DD8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7C496-9FBD-4534-8C8C-8AE3A964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D5A9D-9796-429B-8780-4A13C881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685D1-7644-4371-A32C-B47C5B95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D8709-F98A-4D29-B7A5-1F20770A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3140B-203C-492C-B44E-3B819DEE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3B27A-0300-4D92-8CEA-B3396946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B1D-C838-4DC4-87FC-DE21DC0F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93783-A00D-4FC9-B1A6-422B200B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A6C87-4CCF-4241-A574-26C8FDF2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2DE1F-B12B-4F1A-A3CE-59AA3335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0511-E6E7-40A6-AC83-B97C235B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A16-52CA-4FA4-970B-B5F25C99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2312-DBF2-4BF8-86CE-83F0BC14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58CF-1055-45E3-AD40-B304BD48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1DDD-1D4A-49B2-9051-7A1CF196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23CD-1812-4578-8FEC-F62DFB5B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3ACD-3B80-41D1-A490-461D8054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C922-C243-4D93-A24A-B809097A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60DA-DD1B-44E5-B28F-57FED1C9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DCA-5E02-4908-9A0F-769410BF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E1B8-4C6A-48DF-BA7E-DB7C7C28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1769-DF31-42DF-BBE6-202AB31C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8548-6B8F-49EA-994C-2F4293FD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5EC4-C3A2-4A57-A4A6-77450D1E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07E1-01FF-49EC-A37F-FD2772A5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0B36-3CFB-47B7-8F40-E36D7C12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E00B-F0FC-48AE-A1C2-B36C1638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8E71-A22B-4CE8-A0D8-76AE184B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82AA-FF03-44EA-881C-034F6437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B6A4-21DC-44D1-AB22-ADB3A7E8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799A-3914-4414-9A96-B4E23B4A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81B7-94BC-4283-9BEA-5B74630F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68CF-3B45-4EE3-97A1-FB9A5388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6A687-2DF1-4FDA-91F2-1008CD67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92A47-2889-4BEC-BF1F-5F89624B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3404C-8CEB-4C84-B25A-00FD1925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931E1-1F0B-4C3A-BD52-E492E0A5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5F902-86D7-4FBC-BDF4-754463A6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B7F29-666E-45A3-B719-8162DBDE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4BBE2-563C-479B-B862-EF640E36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286FE-C9C9-4B5F-A208-DBC04FF0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10A9D-01FD-4406-8F96-8CB2F8FC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7BBC7-FB1C-4FF5-823E-6FFBC720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5A08A-80C2-413F-B3E4-3C40206F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1215C-A581-4917-889B-29EFEC7C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AC8C9-33C1-42BF-9E67-9915CC49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1B5B5-5361-42D7-8B18-048A0F90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D0B31-4E2C-4EB7-990D-C93C8108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AED6C-AC05-41E3-81FF-47F1D0FA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E273F-80E2-4467-9420-ECE584AE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D01F7-A69E-4F9F-9C8E-E40F485A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CA967-B322-42D5-911A-2264F123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FD764-6921-4126-A645-95D086D5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DF82F-6683-4DF4-9D3A-A6A2DBA8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FEF02-AE6E-4592-8608-1129EE54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01A74-A9B6-4ABF-B0AF-B54678A0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553FB-1E89-4CF9-A158-DBFD6847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72811-EC14-4B3A-830A-02BC5F26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5BD23-66C6-494F-A70E-963547C1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83B2D-A2BC-4928-A875-641713E8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FFC4C-72A5-4969-8D74-D8DF42D4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AF069-ED54-457C-950D-B52E11F5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06253-52D9-4489-847F-9F0B15C0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4EAA2-73EB-489A-B55A-9352ED46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D1FFB-4147-41DC-B3A2-6A1C3BC7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25B0D-0FFB-4846-97B3-897D7FB3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2F26A-EEC0-401D-9718-F052B4F9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A0B1D-8FB7-4F9F-BD86-E7F656F2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1A1AB-11E2-4509-8A62-1F6B5155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A4F17-BD2B-4658-8DA6-92AF4519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3E3AD-A6FC-41C8-A92B-3D9094B9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12D58-3223-4771-AD46-6B68EA37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A9743-AF57-4705-B080-109851C0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A7CB9-9CE4-4545-9BF8-695D6B80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52754-990B-48B2-86CA-8F23D4CB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1DBCC-B91B-447F-8815-44D0FAF3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ABA6A-C1FC-425D-AA6B-E6A6EDAA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E5F70-4243-47F2-98EE-A076F2DD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E39B0-A090-4563-BB2C-6A511583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D584B-C91F-4454-908D-E77C624E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8CEB9-A5F6-44EB-923A-DAE6517D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A9B0C-91A5-4BCF-88DF-6543CF37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F748A-A90D-46B1-8D16-61B0A576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1AB0A-C42D-43E6-B7EC-C280E560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9903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2520" indent="-1681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5943600" y="635652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0" y="635652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04280" y="96480"/>
            <a:ext cx="73645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2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3"/>
          </p:nvPr>
        </p:nvSpPr>
        <p:spPr>
          <a:xfrm>
            <a:off x="3238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4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5A37-1FCC-4663-86E3-3FEABDECF8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026"/>
          <p:cNvSpPr/>
          <p:nvPr/>
        </p:nvSpPr>
        <p:spPr>
          <a:xfrm>
            <a:off x="1066680" y="2995560"/>
            <a:ext cx="8077320" cy="3862440"/>
          </a:xfrm>
          <a:prstGeom prst="rect">
            <a:avLst/>
          </a:prstGeom>
          <a:gradFill rotWithShape="0">
            <a:gsLst>
              <a:gs pos="0">
                <a:srgbClr val="060833"/>
              </a:gs>
              <a:gs pos="100000">
                <a:srgbClr val="1822c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1027"/>
          <p:cNvSpPr/>
          <p:nvPr/>
        </p:nvSpPr>
        <p:spPr>
          <a:xfrm>
            <a:off x="0" y="2995560"/>
            <a:ext cx="1066680" cy="3862440"/>
          </a:xfrm>
          <a:prstGeom prst="rect">
            <a:avLst/>
          </a:prstGeom>
          <a:gradFill rotWithShape="0">
            <a:gsLst>
              <a:gs pos="0">
                <a:srgbClr val="0305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Group 1031"/>
          <p:cNvGrpSpPr/>
          <p:nvPr/>
        </p:nvGrpSpPr>
        <p:grpSpPr>
          <a:xfrm>
            <a:off x="0" y="1905120"/>
            <a:ext cx="6172200" cy="2438280"/>
            <a:chOff x="0" y="1905120"/>
            <a:chExt cx="6172200" cy="2438280"/>
          </a:xfrm>
        </p:grpSpPr>
        <p:sp>
          <p:nvSpPr>
            <p:cNvPr id="424" name="Oval 1032"/>
            <p:cNvSpPr/>
            <p:nvPr/>
          </p:nvSpPr>
          <p:spPr>
            <a:xfrm>
              <a:off x="789120" y="269388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80b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Oval 1033"/>
            <p:cNvSpPr/>
            <p:nvPr/>
          </p:nvSpPr>
          <p:spPr>
            <a:xfrm>
              <a:off x="942840" y="286056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Rectangle 1034"/>
            <p:cNvSpPr/>
            <p:nvPr/>
          </p:nvSpPr>
          <p:spPr>
            <a:xfrm>
              <a:off x="0" y="299088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fffff"/>
                </a:gs>
                <a:gs pos="100000">
                  <a:srgbClr val="0a0e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Rectangle 1035"/>
            <p:cNvSpPr/>
            <p:nvPr/>
          </p:nvSpPr>
          <p:spPr>
            <a:xfrm>
              <a:off x="1076400" y="190512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fffff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Rectangle 1036"/>
            <p:cNvSpPr/>
            <p:nvPr/>
          </p:nvSpPr>
          <p:spPr>
            <a:xfrm>
              <a:off x="1144440" y="299088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a0e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2A4F-95AD-4860-AB8D-FF936D78F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591F-3B5D-47DB-AAE3-84B3913BF9E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FC94-F903-4450-BF30-0380E646B8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oliday 16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2B08-ADA2-4BAD-91D3-20267821C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1"/>
          </p:nvPr>
        </p:nvSpPr>
        <p:spPr>
          <a:xfrm>
            <a:off x="3238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2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08A6-5E74-454E-A49D-8D4CDED0C9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body"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1066680" y="1459080"/>
            <a:ext cx="8077320" cy="5398920"/>
          </a:xfrm>
          <a:prstGeom prst="rect">
            <a:avLst/>
          </a:prstGeom>
          <a:gradFill rotWithShape="0">
            <a:gsLst>
              <a:gs pos="0">
                <a:srgbClr val="060833"/>
              </a:gs>
              <a:gs pos="100000">
                <a:srgbClr val="1822c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1447920"/>
            <a:ext cx="1066680" cy="5410080"/>
          </a:xfrm>
          <a:prstGeom prst="rect">
            <a:avLst/>
          </a:prstGeom>
          <a:gradFill rotWithShape="0">
            <a:gsLst>
              <a:gs pos="0">
                <a:srgbClr val="0305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dt" idx="13"/>
          </p:nvPr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14"/>
          </p:nvPr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5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2ABF-3A75-4F6F-84E6-D95AD8B29F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Group 7"/>
          <p:cNvGrpSpPr/>
          <p:nvPr/>
        </p:nvGrpSpPr>
        <p:grpSpPr>
          <a:xfrm>
            <a:off x="0" y="355680"/>
            <a:ext cx="6172200" cy="2438280"/>
            <a:chOff x="0" y="355680"/>
            <a:chExt cx="6172200" cy="2438280"/>
          </a:xfrm>
        </p:grpSpPr>
        <p:sp>
          <p:nvSpPr>
            <p:cNvPr id="212" name="Oval 8"/>
            <p:cNvSpPr/>
            <p:nvPr/>
          </p:nvSpPr>
          <p:spPr>
            <a:xfrm>
              <a:off x="789120" y="114444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80b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Oval 9"/>
            <p:cNvSpPr/>
            <p:nvPr/>
          </p:nvSpPr>
          <p:spPr>
            <a:xfrm>
              <a:off x="942840" y="131112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0" y="144144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fffff"/>
                </a:gs>
                <a:gs pos="100000">
                  <a:srgbClr val="0a0e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1076400" y="35568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fffff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1144440" y="144144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a0e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"/>
          <p:cNvPicPr/>
          <p:nvPr/>
        </p:nvPicPr>
        <p:blipFill>
          <a:blip r:embed="rId3"/>
          <a:stretch/>
        </p:blipFill>
        <p:spPr>
          <a:xfrm>
            <a:off x="3751200" y="612720"/>
            <a:ext cx="1617840" cy="16178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9"/>
          <p:cNvSpPr/>
          <p:nvPr/>
        </p:nvSpPr>
        <p:spPr>
          <a:xfrm>
            <a:off x="0" y="43401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artment of Homeland Secur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ition Planning Off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16C2-2B2B-453F-918A-9043D7C02B52}" type="datetime2">
              <a:rPr b="0" lang="en-US" sz="2000" spc="-1" strike="noStrike">
                <a:solidFill>
                  <a:srgbClr val="ffffff"/>
                </a:solidFill>
                <a:latin typeface="Arial"/>
              </a:rPr>
              <a:t>Thursday, July 30, 2026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9903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2520" indent="-1681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04280" y="96480"/>
            <a:ext cx="73645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C9B3-99D7-4AD3-9BCA-18161E5D241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Holiday 16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D3FB-14AA-4F5C-8983-B7185090A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41360" y="1897200"/>
            <a:ext cx="8229600" cy="25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80"/>
                </a:solidFill>
                <a:latin typeface="Georgia"/>
              </a:rPr>
              <a:t>THE FEDERAL BUREACRAC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049040" y="4144680"/>
            <a:ext cx="8466120" cy="6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368440" y="351000"/>
            <a:ext cx="446904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ederal Bureaucrac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1103400" y="1388160"/>
            <a:ext cx="2116080" cy="581400"/>
          </a:xfrm>
          <a:prstGeom prst="rect">
            <a:avLst/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si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5862600" y="1413360"/>
            <a:ext cx="1900440" cy="58140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g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220680" y="2579040"/>
            <a:ext cx="1817640" cy="18313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cut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x: OMB, NS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2246400" y="4996440"/>
            <a:ext cx="4653000" cy="7340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ment Corpo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x: Amtrack, Postal Servi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7040880" y="2587320"/>
            <a:ext cx="1910520" cy="14655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epend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ul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is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x: FCC, SE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1185480" y="2014560"/>
            <a:ext cx="981000" cy="59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Line 11"/>
          <p:cNvSpPr/>
          <p:nvPr/>
        </p:nvSpPr>
        <p:spPr>
          <a:xfrm>
            <a:off x="2166840" y="2031840"/>
            <a:ext cx="1203480" cy="830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12"/>
          <p:cNvSpPr/>
          <p:nvPr/>
        </p:nvSpPr>
        <p:spPr>
          <a:xfrm>
            <a:off x="2151000" y="1998720"/>
            <a:ext cx="3419640" cy="84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Line 13"/>
          <p:cNvSpPr/>
          <p:nvPr/>
        </p:nvSpPr>
        <p:spPr>
          <a:xfrm>
            <a:off x="2166840" y="2030400"/>
            <a:ext cx="5689800" cy="560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Line 14"/>
          <p:cNvSpPr/>
          <p:nvPr/>
        </p:nvSpPr>
        <p:spPr>
          <a:xfrm flipH="1">
            <a:off x="3436560" y="2049480"/>
            <a:ext cx="3405240" cy="8128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Line 15"/>
          <p:cNvSpPr/>
          <p:nvPr/>
        </p:nvSpPr>
        <p:spPr>
          <a:xfrm flipH="1">
            <a:off x="5757480" y="2048040"/>
            <a:ext cx="1049400" cy="796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Line 16"/>
          <p:cNvSpPr/>
          <p:nvPr/>
        </p:nvSpPr>
        <p:spPr>
          <a:xfrm>
            <a:off x="6797520" y="2026800"/>
            <a:ext cx="1065600" cy="567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4785840" y="2842560"/>
            <a:ext cx="1915200" cy="15570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epend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cut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x: CIA, NAS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2386440" y="2849760"/>
            <a:ext cx="2034000" cy="10998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bi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art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x: State, Defens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Line 21"/>
          <p:cNvSpPr/>
          <p:nvPr/>
        </p:nvSpPr>
        <p:spPr>
          <a:xfrm>
            <a:off x="2184480" y="1998720"/>
            <a:ext cx="119160" cy="297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Line 22"/>
          <p:cNvSpPr/>
          <p:nvPr/>
        </p:nvSpPr>
        <p:spPr>
          <a:xfrm>
            <a:off x="6824520" y="1998720"/>
            <a:ext cx="15840" cy="29970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WordArt 23"/>
          <p:cNvSpPr txBox="1"/>
          <p:nvPr/>
        </p:nvSpPr>
        <p:spPr>
          <a:xfrm>
            <a:off x="2679840" y="422280"/>
            <a:ext cx="388620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deral Bureaucrac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18680" y="431280"/>
            <a:ext cx="7023240" cy="119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Independent Executive Agencies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68280" y="1638360"/>
            <a:ext cx="8331120" cy="491472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Established by Congress with separate status outside the executive branch 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Given a specific mandate and generally perform a service function, not a regulatory one. 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Some </a:t>
            </a:r>
            <a:r>
              <a:rPr b="1" lang="en-US" sz="2800" spc="-1" strike="noStrike">
                <a:solidFill>
                  <a:srgbClr val="2c1102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 include: Social Security Administration, CIA, NASA, EPA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95000" y="584280"/>
            <a:ext cx="728964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1102"/>
                </a:solidFill>
                <a:latin typeface="Arial"/>
              </a:rPr>
              <a:t>Independent Regulatory Commissions</a:t>
            </a:r>
            <a:endParaRPr b="1" lang="en-US" sz="36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69440" y="1810800"/>
            <a:ext cx="8394840" cy="47516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Exist to </a:t>
            </a:r>
            <a:r>
              <a:rPr b="1" lang="en-US" sz="2800" spc="-1" strike="noStrike">
                <a:solidFill>
                  <a:srgbClr val="2c1102"/>
                </a:solidFill>
                <a:latin typeface="Arial"/>
              </a:rPr>
              <a:t>regulate a specific economic activity or interest</a:t>
            </a: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 such as the </a:t>
            </a:r>
            <a:r>
              <a:rPr b="0" i="1" lang="en-US" sz="2800" spc="-1" strike="noStrike">
                <a:solidFill>
                  <a:srgbClr val="2c1102"/>
                </a:solidFill>
                <a:latin typeface="Arial"/>
              </a:rPr>
              <a:t>Federal Communications Commission</a:t>
            </a: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 (public air waves) or </a:t>
            </a:r>
            <a:r>
              <a:rPr b="0" i="1" lang="en-US" sz="2800" spc="-1" strike="noStrike">
                <a:solidFill>
                  <a:srgbClr val="2c1102"/>
                </a:solidFill>
                <a:latin typeface="Arial"/>
              </a:rPr>
              <a:t>Federal Reserve Board</a:t>
            </a: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 (banking system, money supply)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IRCs operate independently from Congress and the President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Once appointed and seated, members cannot be removed without cause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74360" y="3934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Government Corporations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863640" y="1743120"/>
            <a:ext cx="7881840" cy="46814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Government owned businesses created by Congress 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May or may not be profitable, but serve a public need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1102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: U.S. Postal Service, Amtrak, Tennessee Valley Authority, Corporation for Public Broadcasting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52320" y="2048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merican Typewriter Condensed"/>
              </a:rPr>
              <a:t>Where do federal employee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3" descr=""/>
          <p:cNvPicPr/>
          <p:nvPr/>
        </p:nvPicPr>
        <p:blipFill>
          <a:blip r:embed="rId1"/>
          <a:stretch/>
        </p:blipFill>
        <p:spPr>
          <a:xfrm>
            <a:off x="312840" y="888840"/>
            <a:ext cx="8615160" cy="6129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-360" y="504360"/>
            <a:ext cx="869940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merican Typewriter"/>
              </a:rPr>
              <a:t>Who supervises the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merican Typewriter"/>
              </a:rPr>
              <a:t>federal bureaucracy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Group 5"/>
          <p:cNvGrpSpPr/>
          <p:nvPr/>
        </p:nvGrpSpPr>
        <p:grpSpPr>
          <a:xfrm>
            <a:off x="490680" y="1459080"/>
            <a:ext cx="7770600" cy="4690800"/>
            <a:chOff x="490680" y="1459080"/>
            <a:chExt cx="7770600" cy="4690800"/>
          </a:xfrm>
        </p:grpSpPr>
        <p:pic>
          <p:nvPicPr>
            <p:cNvPr id="555" name="Picture 6" descr="scrap"/>
            <p:cNvPicPr/>
            <p:nvPr/>
          </p:nvPicPr>
          <p:blipFill>
            <a:blip r:embed="rId1"/>
            <a:stretch/>
          </p:blipFill>
          <p:spPr>
            <a:xfrm>
              <a:off x="2845800" y="1755000"/>
              <a:ext cx="1234800" cy="119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Picture 7" descr="scrap"/>
            <p:cNvPicPr/>
            <p:nvPr/>
          </p:nvPicPr>
          <p:blipFill>
            <a:blip r:embed="rId2"/>
            <a:stretch/>
          </p:blipFill>
          <p:spPr>
            <a:xfrm>
              <a:off x="6626880" y="4763880"/>
              <a:ext cx="1249200" cy="120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Picture 8" descr="scrap"/>
            <p:cNvPicPr/>
            <p:nvPr/>
          </p:nvPicPr>
          <p:blipFill>
            <a:blip r:embed="rId3"/>
            <a:stretch/>
          </p:blipFill>
          <p:spPr>
            <a:xfrm>
              <a:off x="6404400" y="1698480"/>
              <a:ext cx="1213560" cy="117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9" descr="scrap"/>
            <p:cNvPicPr/>
            <p:nvPr/>
          </p:nvPicPr>
          <p:blipFill>
            <a:blip r:embed="rId4"/>
            <a:stretch/>
          </p:blipFill>
          <p:spPr>
            <a:xfrm>
              <a:off x="6374520" y="3305160"/>
              <a:ext cx="1269000" cy="12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10" descr="scrap"/>
            <p:cNvPicPr/>
            <p:nvPr/>
          </p:nvPicPr>
          <p:blipFill>
            <a:blip r:embed="rId5"/>
            <a:stretch/>
          </p:blipFill>
          <p:spPr>
            <a:xfrm>
              <a:off x="4523760" y="1708560"/>
              <a:ext cx="1245240" cy="11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1" descr="scrap"/>
            <p:cNvPicPr/>
            <p:nvPr/>
          </p:nvPicPr>
          <p:blipFill>
            <a:blip r:embed="rId6"/>
            <a:stretch/>
          </p:blipFill>
          <p:spPr>
            <a:xfrm>
              <a:off x="3144960" y="3294720"/>
              <a:ext cx="2223000" cy="83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12" descr="scrap"/>
            <p:cNvPicPr/>
            <p:nvPr/>
          </p:nvPicPr>
          <p:blipFill>
            <a:blip r:embed="rId7"/>
            <a:stretch/>
          </p:blipFill>
          <p:spPr>
            <a:xfrm>
              <a:off x="1037160" y="4734720"/>
              <a:ext cx="1096200" cy="115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13" descr="scrap"/>
            <p:cNvPicPr/>
            <p:nvPr/>
          </p:nvPicPr>
          <p:blipFill>
            <a:blip r:embed="rId8"/>
            <a:stretch/>
          </p:blipFill>
          <p:spPr>
            <a:xfrm>
              <a:off x="972360" y="3178800"/>
              <a:ext cx="1366920" cy="13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14" descr=""/>
            <p:cNvPicPr/>
            <p:nvPr/>
          </p:nvPicPr>
          <p:blipFill>
            <a:blip r:embed="rId9"/>
            <a:stretch/>
          </p:blipFill>
          <p:spPr>
            <a:xfrm>
              <a:off x="4642200" y="4543200"/>
              <a:ext cx="1487160" cy="11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15" descr=""/>
            <p:cNvPicPr/>
            <p:nvPr/>
          </p:nvPicPr>
          <p:blipFill>
            <a:blip r:embed="rId10"/>
            <a:stretch/>
          </p:blipFill>
          <p:spPr>
            <a:xfrm>
              <a:off x="977400" y="1744920"/>
              <a:ext cx="1177560" cy="115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Picture 16" descr="scrap"/>
            <p:cNvPicPr/>
            <p:nvPr/>
          </p:nvPicPr>
          <p:blipFill>
            <a:blip r:embed="rId11"/>
            <a:stretch/>
          </p:blipFill>
          <p:spPr>
            <a:xfrm>
              <a:off x="2877480" y="4592520"/>
              <a:ext cx="1217880" cy="11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17"/>
            <p:cNvSpPr/>
            <p:nvPr/>
          </p:nvSpPr>
          <p:spPr>
            <a:xfrm>
              <a:off x="490680" y="1459080"/>
              <a:ext cx="7770600" cy="46908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5000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49360" y="304560"/>
            <a:ext cx="8594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The President Supervises the Bureau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242960" y="1558800"/>
            <a:ext cx="45766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President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9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ppoint &amp; remove                              agency h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9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organize the      bureau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9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ssue executive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9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duce an agency's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3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4" descr="scrap"/>
          <p:cNvPicPr/>
          <p:nvPr/>
        </p:nvPicPr>
        <p:blipFill>
          <a:blip r:embed="rId1"/>
          <a:stretch/>
        </p:blipFill>
        <p:spPr>
          <a:xfrm>
            <a:off x="254160" y="2014560"/>
            <a:ext cx="3973320" cy="265284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5"/>
          <p:cNvSpPr/>
          <p:nvPr/>
        </p:nvSpPr>
        <p:spPr>
          <a:xfrm>
            <a:off x="574560" y="4723560"/>
            <a:ext cx="358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Osaka"/>
              </a:rPr>
              <a:t>President Bush speaks about his budget            priorities for FY 20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5000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29760" y="0"/>
            <a:ext cx="881388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gress Oversees the Bureauc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72640" y="948960"/>
            <a:ext cx="5791320" cy="59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gress c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reate or abolish agencies                                         &amp; depart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ut or reduce fu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vestigate agenc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old committee hear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ass legislation that alters              an agency's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fluence or even fail to confirm presidential appoin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6" descr="scrap"/>
          <p:cNvPicPr/>
          <p:nvPr/>
        </p:nvPicPr>
        <p:blipFill>
          <a:blip r:embed="rId1"/>
          <a:stretch/>
        </p:blipFill>
        <p:spPr>
          <a:xfrm>
            <a:off x="5373720" y="1727280"/>
            <a:ext cx="3367080" cy="271440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7"/>
          <p:cNvSpPr/>
          <p:nvPr/>
        </p:nvSpPr>
        <p:spPr>
          <a:xfrm>
            <a:off x="4764240" y="4541400"/>
            <a:ext cx="4532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Osaka"/>
              </a:rPr>
              <a:t>Former FEMA Chief Michael Brown testifies before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Osaka"/>
              </a:rPr>
              <a:t>House committee investigating Hurricane Katr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5000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29760" y="0"/>
            <a:ext cx="881388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ederal Courts Check the Bureauc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26920" y="1236600"/>
            <a:ext cx="409752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ederal courts c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rough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judicial review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rule on whether the bureaucracy has acted within the law and the U.S.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vide due process for individuals affected by a bureaucratic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4584600" y="5377680"/>
            <a:ext cx="4532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Osaka"/>
              </a:rPr>
              <a:t>Supreme Court of the United Sta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8" name="Picture 10" descr="scrap"/>
          <p:cNvPicPr/>
          <p:nvPr/>
        </p:nvPicPr>
        <p:blipFill>
          <a:blip r:embed="rId1"/>
          <a:stretch/>
        </p:blipFill>
        <p:spPr>
          <a:xfrm>
            <a:off x="4808520" y="1793880"/>
            <a:ext cx="3400560" cy="3390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50880" y="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The Bureaucracy of Piz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Object 5"/>
          <p:cNvGraphicFramePr/>
          <p:nvPr/>
        </p:nvGraphicFramePr>
        <p:xfrm>
          <a:off x="1289160" y="792000"/>
          <a:ext cx="6568920" cy="57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9160" y="792000"/>
                    <a:ext cx="6568920" cy="574056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c1102"/>
                </a:solidFill>
                <a:latin typeface="American Typewriter"/>
              </a:rPr>
              <a:t>bureaucracy</a:t>
            </a:r>
            <a:endParaRPr b="1" lang="en-US" sz="5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65240"/>
            <a:ext cx="432612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2c11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Times New Roman"/>
              </a:rPr>
              <a:t>literally means “rule by desks”</a:t>
            </a:r>
            <a:endParaRPr b="0" lang="en-US" sz="4400" spc="-1" strike="noStrike">
              <a:solidFill>
                <a:srgbClr val="2c110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2c11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Times New Roman"/>
              </a:rPr>
              <a:t>government by clerks</a:t>
            </a:r>
            <a:endParaRPr b="0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pic>
        <p:nvPicPr>
          <p:cNvPr id="474" name="Picture 4" descr=""/>
          <p:cNvPicPr/>
          <p:nvPr/>
        </p:nvPicPr>
        <p:blipFill>
          <a:blip r:embed="rId1"/>
          <a:stretch/>
        </p:blipFill>
        <p:spPr>
          <a:xfrm>
            <a:off x="4997520" y="1887480"/>
            <a:ext cx="3182760" cy="342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9320" y="1648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dcb9"/>
                </a:solidFill>
                <a:latin typeface="American Typewriter"/>
              </a:rPr>
              <a:t>What people think about bureaucracies . . 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987360" y="1549440"/>
            <a:ext cx="5156280" cy="55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’s im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lined to follow rigid or complex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y stifle effectiveness and inno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d tap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6" descr=""/>
          <p:cNvPicPr/>
          <p:nvPr/>
        </p:nvPicPr>
        <p:blipFill>
          <a:blip r:embed="rId1"/>
          <a:stretch/>
        </p:blipFill>
        <p:spPr>
          <a:xfrm>
            <a:off x="106200" y="2631960"/>
            <a:ext cx="381024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60040" y="2568240"/>
            <a:ext cx="73645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The Federal Bureaucra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Picture 3" descr="scrap"/>
          <p:cNvPicPr/>
          <p:nvPr/>
        </p:nvPicPr>
        <p:blipFill>
          <a:blip r:embed="rId1"/>
          <a:stretch/>
        </p:blipFill>
        <p:spPr>
          <a:xfrm>
            <a:off x="2897280" y="1695600"/>
            <a:ext cx="1305000" cy="13046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" descr="scrap"/>
          <p:cNvPicPr/>
          <p:nvPr/>
        </p:nvPicPr>
        <p:blipFill>
          <a:blip r:embed="rId2"/>
          <a:stretch/>
        </p:blipFill>
        <p:spPr>
          <a:xfrm>
            <a:off x="6840360" y="4986360"/>
            <a:ext cx="1320840" cy="13208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5" descr="scrap"/>
          <p:cNvPicPr/>
          <p:nvPr/>
        </p:nvPicPr>
        <p:blipFill>
          <a:blip r:embed="rId3"/>
          <a:stretch/>
        </p:blipFill>
        <p:spPr>
          <a:xfrm>
            <a:off x="6657840" y="16336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6" descr="scrap"/>
          <p:cNvPicPr/>
          <p:nvPr/>
        </p:nvPicPr>
        <p:blipFill>
          <a:blip r:embed="rId4"/>
          <a:stretch/>
        </p:blipFill>
        <p:spPr>
          <a:xfrm>
            <a:off x="6608880" y="3390840"/>
            <a:ext cx="1341360" cy="13842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7" descr="scrap"/>
          <p:cNvPicPr/>
          <p:nvPr/>
        </p:nvPicPr>
        <p:blipFill>
          <a:blip r:embed="rId5"/>
          <a:stretch/>
        </p:blipFill>
        <p:spPr>
          <a:xfrm>
            <a:off x="4670280" y="1644480"/>
            <a:ext cx="1316160" cy="1309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scrap"/>
          <p:cNvPicPr/>
          <p:nvPr/>
        </p:nvPicPr>
        <p:blipFill>
          <a:blip r:embed="rId6"/>
          <a:stretch/>
        </p:blipFill>
        <p:spPr>
          <a:xfrm>
            <a:off x="3178080" y="3379680"/>
            <a:ext cx="2349720" cy="9144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9" descr="scrap"/>
          <p:cNvPicPr/>
          <p:nvPr/>
        </p:nvPicPr>
        <p:blipFill>
          <a:blip r:embed="rId7"/>
          <a:stretch/>
        </p:blipFill>
        <p:spPr>
          <a:xfrm>
            <a:off x="933480" y="4954680"/>
            <a:ext cx="1158840" cy="12618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0" descr="scrap"/>
          <p:cNvPicPr/>
          <p:nvPr/>
        </p:nvPicPr>
        <p:blipFill>
          <a:blip r:embed="rId8"/>
          <a:stretch/>
        </p:blipFill>
        <p:spPr>
          <a:xfrm>
            <a:off x="865080" y="3252960"/>
            <a:ext cx="1444680" cy="14302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1" descr=""/>
          <p:cNvPicPr/>
          <p:nvPr/>
        </p:nvPicPr>
        <p:blipFill>
          <a:blip r:embed="rId9"/>
          <a:stretch/>
        </p:blipFill>
        <p:spPr>
          <a:xfrm>
            <a:off x="4743360" y="4745160"/>
            <a:ext cx="1571760" cy="12967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2" descr=""/>
          <p:cNvPicPr/>
          <p:nvPr/>
        </p:nvPicPr>
        <p:blipFill>
          <a:blip r:embed="rId10"/>
          <a:stretch/>
        </p:blipFill>
        <p:spPr>
          <a:xfrm>
            <a:off x="905040" y="1684440"/>
            <a:ext cx="1244520" cy="12650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3" descr="scrap"/>
          <p:cNvPicPr/>
          <p:nvPr/>
        </p:nvPicPr>
        <p:blipFill>
          <a:blip r:embed="rId11"/>
          <a:stretch/>
        </p:blipFill>
        <p:spPr>
          <a:xfrm>
            <a:off x="2878200" y="4799160"/>
            <a:ext cx="1287360" cy="128736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15"/>
          <p:cNvSpPr/>
          <p:nvPr/>
        </p:nvSpPr>
        <p:spPr>
          <a:xfrm>
            <a:off x="390600" y="1371600"/>
            <a:ext cx="8211960" cy="51307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16"/>
          <p:cNvSpPr/>
          <p:nvPr/>
        </p:nvSpPr>
        <p:spPr>
          <a:xfrm>
            <a:off x="691200" y="484200"/>
            <a:ext cx="77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merican Typewriter"/>
              </a:rPr>
              <a:t>What is the federal bureaucrac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c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83840" y="134640"/>
            <a:ext cx="8418600" cy="117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hat makes up the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ederal Bureaucracy? </a:t>
            </a:r>
            <a:endParaRPr b="1" lang="en-US" sz="48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122120"/>
            <a:ext cx="9042480" cy="5621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million employees; 2.8 million are civilians or “civil serva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ident only appoints 3%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patronage or political appoint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 cabinet level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+ independent agencies with 2,000+ bureaus, divisions, branche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rgest? Dept. of Defense, U.S. Postal Service, Veterans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60040" y="2568240"/>
            <a:ext cx="73645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The Federal Bureaucra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scrap"/>
          <p:cNvPicPr/>
          <p:nvPr/>
        </p:nvPicPr>
        <p:blipFill>
          <a:blip r:embed="rId1"/>
          <a:stretch/>
        </p:blipFill>
        <p:spPr>
          <a:xfrm>
            <a:off x="2897280" y="1695600"/>
            <a:ext cx="1305000" cy="13046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" descr="scrap"/>
          <p:cNvPicPr/>
          <p:nvPr/>
        </p:nvPicPr>
        <p:blipFill>
          <a:blip r:embed="rId2"/>
          <a:stretch/>
        </p:blipFill>
        <p:spPr>
          <a:xfrm>
            <a:off x="6840360" y="4986360"/>
            <a:ext cx="1320840" cy="13208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5" descr="scrap"/>
          <p:cNvPicPr/>
          <p:nvPr/>
        </p:nvPicPr>
        <p:blipFill>
          <a:blip r:embed="rId3"/>
          <a:stretch/>
        </p:blipFill>
        <p:spPr>
          <a:xfrm>
            <a:off x="6657840" y="16336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6" descr="scrap"/>
          <p:cNvPicPr/>
          <p:nvPr/>
        </p:nvPicPr>
        <p:blipFill>
          <a:blip r:embed="rId4"/>
          <a:stretch/>
        </p:blipFill>
        <p:spPr>
          <a:xfrm>
            <a:off x="6608880" y="3390840"/>
            <a:ext cx="1341360" cy="13842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scrap"/>
          <p:cNvPicPr/>
          <p:nvPr/>
        </p:nvPicPr>
        <p:blipFill>
          <a:blip r:embed="rId5"/>
          <a:stretch/>
        </p:blipFill>
        <p:spPr>
          <a:xfrm>
            <a:off x="4670280" y="1644480"/>
            <a:ext cx="1316160" cy="13096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8" descr="scrap"/>
          <p:cNvPicPr/>
          <p:nvPr/>
        </p:nvPicPr>
        <p:blipFill>
          <a:blip r:embed="rId6"/>
          <a:stretch/>
        </p:blipFill>
        <p:spPr>
          <a:xfrm>
            <a:off x="3178080" y="3379680"/>
            <a:ext cx="2349720" cy="9144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9" descr="scrap"/>
          <p:cNvPicPr/>
          <p:nvPr/>
        </p:nvPicPr>
        <p:blipFill>
          <a:blip r:embed="rId7"/>
          <a:stretch/>
        </p:blipFill>
        <p:spPr>
          <a:xfrm>
            <a:off x="933480" y="4954680"/>
            <a:ext cx="1158840" cy="12618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0" descr="scrap"/>
          <p:cNvPicPr/>
          <p:nvPr/>
        </p:nvPicPr>
        <p:blipFill>
          <a:blip r:embed="rId8"/>
          <a:stretch/>
        </p:blipFill>
        <p:spPr>
          <a:xfrm>
            <a:off x="865080" y="3252960"/>
            <a:ext cx="1444680" cy="14302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1" descr=""/>
          <p:cNvPicPr/>
          <p:nvPr/>
        </p:nvPicPr>
        <p:blipFill>
          <a:blip r:embed="rId9"/>
          <a:stretch/>
        </p:blipFill>
        <p:spPr>
          <a:xfrm>
            <a:off x="4743360" y="4745160"/>
            <a:ext cx="1571760" cy="12967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2" descr=""/>
          <p:cNvPicPr/>
          <p:nvPr/>
        </p:nvPicPr>
        <p:blipFill>
          <a:blip r:embed="rId10"/>
          <a:stretch/>
        </p:blipFill>
        <p:spPr>
          <a:xfrm>
            <a:off x="905040" y="1684440"/>
            <a:ext cx="1244520" cy="12650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3" descr="scrap"/>
          <p:cNvPicPr/>
          <p:nvPr/>
        </p:nvPicPr>
        <p:blipFill>
          <a:blip r:embed="rId11"/>
          <a:stretch/>
        </p:blipFill>
        <p:spPr>
          <a:xfrm>
            <a:off x="2878200" y="4799160"/>
            <a:ext cx="1287360" cy="128736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14"/>
          <p:cNvSpPr/>
          <p:nvPr/>
        </p:nvSpPr>
        <p:spPr>
          <a:xfrm>
            <a:off x="390600" y="1371600"/>
            <a:ext cx="8211960" cy="51307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15"/>
          <p:cNvSpPr/>
          <p:nvPr/>
        </p:nvSpPr>
        <p:spPr>
          <a:xfrm>
            <a:off x="486720" y="514080"/>
            <a:ext cx="81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merican Typewriter"/>
              </a:rPr>
              <a:t>What does the federal bureaucracy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29840" y="392040"/>
            <a:ext cx="8713800" cy="117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Georgia"/>
              </a:rPr>
              <a:t>Functions of the Federal Bureaucracy</a:t>
            </a:r>
            <a:endParaRPr b="1" lang="en-US" sz="32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95000" y="1239840"/>
            <a:ext cx="8381880" cy="5105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marL="609480" indent="-609480">
              <a:spcBef>
                <a:spcPts val="700"/>
              </a:spcBef>
              <a:buClr>
                <a:srgbClr val="00008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mplementatio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rry out laws of Congress, executive orders of the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8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dministratio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 routine administrative work; provide services (ex:  SSA sends social security checks to beneficia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8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gulation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 issue rules and regulations that impact the public (ex: EPA sets clean air standa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60040" y="2568240"/>
            <a:ext cx="73645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The Federal Bureaucra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1" name="Group 16"/>
          <p:cNvGrpSpPr/>
          <p:nvPr/>
        </p:nvGrpSpPr>
        <p:grpSpPr>
          <a:xfrm>
            <a:off x="576360" y="1170000"/>
            <a:ext cx="7770600" cy="5064120"/>
            <a:chOff x="576360" y="1170000"/>
            <a:chExt cx="7770600" cy="5064120"/>
          </a:xfrm>
        </p:grpSpPr>
        <p:pic>
          <p:nvPicPr>
            <p:cNvPr id="512" name="Picture 3" descr="scrap"/>
            <p:cNvPicPr/>
            <p:nvPr/>
          </p:nvPicPr>
          <p:blipFill>
            <a:blip r:embed="rId1"/>
            <a:stretch/>
          </p:blipFill>
          <p:spPr>
            <a:xfrm>
              <a:off x="2931480" y="1489680"/>
              <a:ext cx="1234800" cy="12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4" descr="scrap"/>
            <p:cNvPicPr/>
            <p:nvPr/>
          </p:nvPicPr>
          <p:blipFill>
            <a:blip r:embed="rId2"/>
            <a:stretch/>
          </p:blipFill>
          <p:spPr>
            <a:xfrm>
              <a:off x="6712560" y="4737600"/>
              <a:ext cx="124920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5" descr="scrap"/>
            <p:cNvPicPr/>
            <p:nvPr/>
          </p:nvPicPr>
          <p:blipFill>
            <a:blip r:embed="rId3"/>
            <a:stretch/>
          </p:blipFill>
          <p:spPr>
            <a:xfrm>
              <a:off x="6490080" y="1428480"/>
              <a:ext cx="1213560" cy="126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6" descr="scrap"/>
            <p:cNvPicPr/>
            <p:nvPr/>
          </p:nvPicPr>
          <p:blipFill>
            <a:blip r:embed="rId4"/>
            <a:stretch/>
          </p:blipFill>
          <p:spPr>
            <a:xfrm>
              <a:off x="6460200" y="3162960"/>
              <a:ext cx="1269000" cy="136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7" descr="scrap"/>
            <p:cNvPicPr/>
            <p:nvPr/>
          </p:nvPicPr>
          <p:blipFill>
            <a:blip r:embed="rId5"/>
            <a:stretch/>
          </p:blipFill>
          <p:spPr>
            <a:xfrm>
              <a:off x="4609440" y="1439280"/>
              <a:ext cx="1245240" cy="12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8" descr="scrap"/>
            <p:cNvPicPr/>
            <p:nvPr/>
          </p:nvPicPr>
          <p:blipFill>
            <a:blip r:embed="rId6"/>
            <a:stretch/>
          </p:blipFill>
          <p:spPr>
            <a:xfrm>
              <a:off x="3230640" y="3151800"/>
              <a:ext cx="2223000" cy="90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9" descr="scrap"/>
            <p:cNvPicPr/>
            <p:nvPr/>
          </p:nvPicPr>
          <p:blipFill>
            <a:blip r:embed="rId7"/>
            <a:stretch/>
          </p:blipFill>
          <p:spPr>
            <a:xfrm>
              <a:off x="1122840" y="4706280"/>
              <a:ext cx="10962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10" descr="scrap"/>
            <p:cNvPicPr/>
            <p:nvPr/>
          </p:nvPicPr>
          <p:blipFill>
            <a:blip r:embed="rId8"/>
            <a:stretch/>
          </p:blipFill>
          <p:spPr>
            <a:xfrm>
              <a:off x="1058040" y="3026880"/>
              <a:ext cx="1366920" cy="141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11" descr=""/>
            <p:cNvPicPr/>
            <p:nvPr/>
          </p:nvPicPr>
          <p:blipFill>
            <a:blip r:embed="rId9"/>
            <a:stretch/>
          </p:blipFill>
          <p:spPr>
            <a:xfrm>
              <a:off x="4727880" y="4499640"/>
              <a:ext cx="1487160" cy="127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12" descr=""/>
            <p:cNvPicPr/>
            <p:nvPr/>
          </p:nvPicPr>
          <p:blipFill>
            <a:blip r:embed="rId10"/>
            <a:stretch/>
          </p:blipFill>
          <p:spPr>
            <a:xfrm>
              <a:off x="1063080" y="1478520"/>
              <a:ext cx="1177560" cy="124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13" descr="scrap"/>
            <p:cNvPicPr/>
            <p:nvPr/>
          </p:nvPicPr>
          <p:blipFill>
            <a:blip r:embed="rId11"/>
            <a:stretch/>
          </p:blipFill>
          <p:spPr>
            <a:xfrm>
              <a:off x="2963160" y="4552920"/>
              <a:ext cx="1217880" cy="12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Rectangle 14"/>
            <p:cNvSpPr/>
            <p:nvPr/>
          </p:nvSpPr>
          <p:spPr>
            <a:xfrm>
              <a:off x="576360" y="1170000"/>
              <a:ext cx="7770600" cy="506412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4" name="Text Box 15"/>
          <p:cNvSpPr/>
          <p:nvPr/>
        </p:nvSpPr>
        <p:spPr>
          <a:xfrm>
            <a:off x="0" y="50328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merican Typewriter"/>
              </a:rPr>
              <a:t>How is the federal bureaucracy organiz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460ee"/>
                </a:solidFill>
                <a:latin typeface="Arial"/>
              </a:rPr>
              <a:t>The Federal Bureaucracy</a:t>
            </a:r>
            <a:endParaRPr b="1" lang="en-US" sz="48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168560" y="1863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ists of . . 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460ee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binet Department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460ee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dependent Executive Agenc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460ee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dependent Regulatory Commis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460ee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vernment Corpor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4T18:23:59Z</dcterms:created>
  <dc:creator>EOP</dc:creator>
  <dc:description/>
  <dc:language>en-US</dc:language>
  <cp:lastModifiedBy>Amber M. Graeber</cp:lastModifiedBy>
  <dcterms:modified xsi:type="dcterms:W3CDTF">2011-12-19T01:00:54Z</dcterms:modified>
  <cp:revision>106</cp:revision>
  <dc:subject/>
  <dc:title>DHS cha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05493606</vt:r8>
  </property>
  <property fmtid="{D5CDD505-2E9C-101B-9397-08002B2CF9AE}" pid="3" name="_AuthorEmail">
    <vt:lpwstr>amber.graeber@dmps.k12.ia.us</vt:lpwstr>
  </property>
  <property fmtid="{D5CDD505-2E9C-101B-9397-08002B2CF9AE}" pid="4" name="_AuthorEmailDisplayName">
    <vt:lpwstr>Graeber, Amber</vt:lpwstr>
  </property>
  <property fmtid="{D5CDD505-2E9C-101B-9397-08002B2CF9AE}" pid="5" name="_EmailSubject">
    <vt:lpwstr>Email 2 - Government in Action Lectures and Interactive Notes</vt:lpwstr>
  </property>
  <property fmtid="{D5CDD505-2E9C-101B-9397-08002B2CF9AE}" pid="6" name="_NewReviewCycle">
    <vt:lpwstr/>
  </property>
</Properties>
</file>